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5769-C435-4BEC-9DDF-F7D48F183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8653-C763-4D86-A3B5-CC1A968B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4CA219-F771-4363-8F30-1BB72063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A20B45-92CE-461C-8162-171AEA96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39671A-8EFB-4FE4-A07E-2F101EF0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05DEF2-F831-48C7-8ED3-E278ADF1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A4DDD6-7A33-48A9-93C4-58E0269F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35CF9A-F297-4D24-93AD-305C3BF8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DD0D5F-DDC0-45DE-8D54-FF28D2C5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E4DB62-4D63-4CB8-8EC0-D34243D0A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D72D56-FF68-4352-BF42-14633608B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812F-CD91-4693-9A61-85E8480C0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5E37-6B24-4ADD-87D3-7ECF026CC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9DADE-BC9B-4898-8F00-8050F2F6E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8C793-5D29-4269-8466-5A2BC9B3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D75A8-8D59-464C-9D6A-3967590F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311150-911D-4FA0-9D8D-366DD74D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775BD-8736-453B-9B93-8BB7062F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F7F10-C03D-4480-92A8-333BBC03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30C96-7BC4-4226-92C4-B3EDCA3C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5971-A06C-4E90-842C-BBB92531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EE6C2-2A1A-4653-AD9B-BADB91A9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3CA81-BFC1-4EC8-A3EF-18EB5722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9BF54-FA66-4EB1-9489-C1AA2378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07A4E-1E21-4C03-A6D4-C983E909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2BB75-2831-48D2-96DB-47A64DF01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5E493-7EB3-4D8B-B3AD-EE8CD6552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A7386-6CA4-487B-8BAA-A83A6128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03F5C-D7F7-4E59-9EA6-370412E3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DEE93-377B-4E4E-9592-AF47A3C3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0807A-FCD8-40B9-9E9E-88E6E74A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70C2-3B18-4DC1-9D29-B5A1417D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FB58E-89C7-4152-AE94-8801791E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02940-085A-4768-9F78-AEE69F6B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84059-3D62-4DBE-BEC5-331F303D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CFC54-0B22-4D6D-B59D-F4F9621E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D859A-6178-4F98-80CC-A18B8A61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73D84-92FC-4717-93C7-5F8CA2149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6742E-C706-4D23-8784-21030B01D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0CE299-0539-41E8-AA3B-E056B9988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785BE0-E26A-48D1-B102-5C971EAA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5CDEE1-4374-4D42-830E-9DA43E1A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6F4D-49E5-4993-AA7F-66BE972F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51C3C5-EBE4-4CFF-AE2A-B60C6E0A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CE32D1-13AD-4703-8A50-2E47F7DE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DDA4C4-601F-439E-85BA-615D2CAE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DB03D2-7DEA-495E-9128-5A77AE82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DD278A-6BBB-447A-AF80-A99DD092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EA583F-4992-4FC9-BC5D-60B127E8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143970-50AB-4052-93D2-C1BBC60F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008042-F514-40EC-B1E8-82D980D39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2FF768-9402-471A-AF39-12B9527A0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DDD67-A0A4-4718-A663-3164D000F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A195-A8CB-46F1-8CFC-7C9A3D23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908A0-5123-4126-B71F-99D7DE37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163ED-D600-4954-92B7-FB13120F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60C2B-FA91-4C81-9FF3-6ED04A6E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03BC6-F4A5-4535-95BE-340FBA49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DAAA5-8FAB-400D-9531-8B8068B8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9EB74-7A36-4723-BED6-C9937F9D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8B1AD-AEC9-4A3B-AFF6-2DFCF4FE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E9CF5-162F-4445-95A4-139F6AA8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98220-271A-48C1-84A1-F5EE0073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94673-9958-4D31-9B1F-FF3BA0FFC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B1A4-675C-4392-A7A3-7BEB2956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F7EF3-94D1-4B15-A157-27C24B0C7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2ECA6-2DA3-4556-8880-31F8DAE69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064DA-FA78-445A-968A-189BDB38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A2D11-56AD-4C55-BBFA-1109570A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4F9E5-6CF9-4007-B94D-64626A9C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0A882-2875-4D1A-949F-C668DEFB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1B47F-4269-4E09-ADF2-279AEB41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A2F83-68E5-4724-86A4-F92E87DC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E3A6B-A98B-4797-8001-616BE77C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0BFB6-04C0-408E-A898-2462A45E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4FBC-1760-412E-B2FA-27CB89BF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3A9E8-543C-45A3-954F-F46D7782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331B3-C4F6-4B5B-A5AA-1E7D056C9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DC7D1-EEB0-425A-A25A-47767CB70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34D8D-3B95-4427-9094-740B50DA4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8A851-4C55-44D0-A07F-98689AA2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5316C-DFCD-4209-9351-C8684327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87376-BE74-4CFF-A5AA-292E597C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B4080-4949-49D3-B3C0-2B0F613E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0CDE5-84F5-4E39-A93B-DBFDA59A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26D76-B0D7-44D5-A6BB-78600C63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7488-4C09-4E1C-B8EB-332451FD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63F54-98E3-4B38-BD32-5D3675F6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C5573-77D8-4BBF-87FC-2923B162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3AD9D-E9F4-45D3-AD47-F90E508F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FD144-F57D-4B18-9B54-4343F24C1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A1BAD-1191-4CDE-B1F6-128803A83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63DCA4-0EFC-461C-B1CA-1155ADCA2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60842B-8D1A-44B0-8548-6B7AB838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23A4A9-2B5B-43C0-B1BF-01B7B8C0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43EE95-472F-4399-B1ED-679AF59D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9EAFF9-9BB3-4032-AB5F-7234A5DC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0B55-E0FB-4488-98B8-8F516C4D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9AF211-5957-49E4-A8CF-4E7CF108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FC5C90-0354-41F2-ABAC-01227DEC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EDC4F2-B470-4978-AEDD-FBDE75AB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57AD04-DB50-4914-B45A-364110A9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31348D-A081-4963-9384-0248A71E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8AFEE8-22BB-475F-983A-B04158647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D0E596-8C02-46E5-89BC-FDB8AFB42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BE08C5-C1F3-4CB0-A178-871F5814A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8C7C5E-785D-447B-BF1B-A330249D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A5DFC0-40B6-461F-928C-89ED1DAC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F9EB-1FFD-4CE6-AFB3-B1E9C2BF074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FD2E-F2E3-4883-BEAD-9AB6D7C3370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5C24-B628-4056-9773-E87AB4A01CB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C5B2-D791-4E9C-BCA9-82EBB6DE446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7448-1955-44EF-BDCB-B4FECA3807D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EBA3-DCFF-40F5-B7EC-6F8957324DE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0B5F-611F-4BB0-875B-D3F295E4A90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9E2D-D3C9-490D-982B-F8357C55FA4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E62D-1CD1-4167-9A32-BE9FE9B5B60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682560" y="1395360"/>
            <a:ext cx="7918560" cy="222588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361960" y="3580920"/>
            <a:ext cx="65595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396" name="Picture 2" descr="C:\Program Files\Microsoft Office\MEDIA\CAGCAT10\j0212957.wmf"/>
          <p:cNvPicPr/>
          <p:nvPr/>
        </p:nvPicPr>
        <p:blipFill>
          <a:blip r:embed="rId2"/>
          <a:stretch/>
        </p:blipFill>
        <p:spPr>
          <a:xfrm>
            <a:off x="1143000" y="4876920"/>
            <a:ext cx="1830240" cy="11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Title 1" descr=""/>
          <p:cNvPicPr/>
          <p:nvPr/>
        </p:nvPicPr>
        <p:blipFill>
          <a:blip r:embed="rId1"/>
          <a:stretch/>
        </p:blipFill>
        <p:spPr>
          <a:xfrm>
            <a:off x="378000" y="22536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No eating inside the clas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ater is the only allowed drink inside the clas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sten when somebody is taking his/her turn to talk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399" name="Picture 4" descr="C:\Program Files\Microsoft Office\MEDIA\CAGCAT10\j0217698.wmf"/>
          <p:cNvPicPr/>
          <p:nvPr/>
        </p:nvPicPr>
        <p:blipFill>
          <a:blip r:embed="rId2"/>
          <a:stretch/>
        </p:blipFill>
        <p:spPr>
          <a:xfrm>
            <a:off x="5867280" y="3809880"/>
            <a:ext cx="277812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tudents must check the board and erase the writings on it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ick up pieces of paper.(if possible sweep the room with a broom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heck the arrangement of the chair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298440" y="-96840"/>
            <a:ext cx="8626320" cy="14810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o things with a critical mind and an enduring hear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ppreciate difficulties and learn out of them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ave FUN!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do you like/want in a teacher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do you think students should act like in the classroom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ow do you see mathematics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Quizzes…….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0%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omeworks….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0%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orksheets…..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30%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xaminations…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Rockwell"/>
              </a:rPr>
              <a:t>40%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            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00%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23:08:45Z</dcterms:created>
  <dc:creator>junPC</dc:creator>
  <dc:description/>
  <dc:language>en-US</dc:language>
  <cp:lastModifiedBy>junPC</cp:lastModifiedBy>
  <dcterms:modified xsi:type="dcterms:W3CDTF">2012-10-01T23:37:13Z</dcterms:modified>
  <cp:revision>3</cp:revision>
  <dc:subject/>
  <dc:title>Euls university High school dept. Mr. Gelmo</dc:title>
</cp:coreProperties>
</file>